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767D-2726-4D73-A4DF-9069BD0B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77B-7877-4B60-B9D8-CC7C52E6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376-0BD0-41C1-B04F-9CDD6704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86E-E449-4FFE-B224-23DA3AE3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54F-E529-481B-9494-4BFECFAC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0EB-E94B-4322-AC0F-32BDA063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6CB-4785-452A-B0C9-34030955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340-3FEB-4972-9170-2428ED3F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108-37F5-414A-A11B-5A8F36A7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C84-2D15-43FE-AA62-88BCAF11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003-C1CF-4D8B-A9E7-09EC859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356-67AE-45E1-93E7-3B59F07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083-340D-4B6E-82EC-FB6C3415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FDE9-BC9E-4573-9D70-42705B02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de.ca.gov/ta/tg/sr/css05rtq.asp" TargetMode="External"/><Relationship Id="rId2" Type="http://schemas.openxmlformats.org/officeDocument/2006/relationships/hyperlink" Target="http://www.cde.ca.gov/ta/tg/sr/css05rtq.asp" TargetMode="External"/><Relationship Id="rId3" Type="http://schemas.openxmlformats.org/officeDocument/2006/relationships/hyperlink" Target="http://www.cde.ca.gov/ta/tg/sr/css05rtq.asp" TargetMode="External"/><Relationship Id="rId4" Type="http://schemas.openxmlformats.org/officeDocument/2006/relationships/hyperlink" Target="http://www.cde.ca.gov/ta/tg/sr/css05rtq.asp" TargetMode="External"/><Relationship Id="rId5" Type="http://schemas.openxmlformats.org/officeDocument/2006/relationships/hyperlink" Target="http://www.cde.ca.gov/ta/tg/sr/css05rtq.asp" TargetMode="External"/><Relationship Id="rId6" Type="http://schemas.openxmlformats.org/officeDocument/2006/relationships/hyperlink" Target="http://www.cde.ca.gov/ta/tg/sr/css05rtq.asp" TargetMode="External"/><Relationship Id="rId7" Type="http://schemas.openxmlformats.org/officeDocument/2006/relationships/hyperlink" Target="http://www.cde.ca.gov/ta/tg/sr/css05rtq.asp" TargetMode="External"/><Relationship Id="rId8" Type="http://schemas.openxmlformats.org/officeDocument/2006/relationships/hyperlink" Target="http://www.cde.ca.gov/ta/tg/sr/css05rtq.asp" TargetMode="External"/><Relationship Id="rId9" Type="http://schemas.openxmlformats.org/officeDocument/2006/relationships/hyperlink" Target="http://www.cde.ca.gov/ta/tg/sr/css05rtq.asp" TargetMode="External"/><Relationship Id="rId10" Type="http://schemas.openxmlformats.org/officeDocument/2006/relationships/hyperlink" Target="http://www.cde.ca.gov/ta/tg/sr/css05rtq.asp" TargetMode="External"/><Relationship Id="rId11" Type="http://schemas.openxmlformats.org/officeDocument/2006/relationships/hyperlink" Target="http://www.cde.ca.gov/ta/tg/sr/css05rtq.asp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ake Napolitano Spaghetti Sa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 Time: 1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k Time: 30 minutes to 2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: 4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aghetti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red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5 large clove garlic, mi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ups fresh tomatoes (peeled &amp; seeded)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28 ounce cans of San Marzano tomat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cup of fresh basil ch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tablespoon fresh par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ch of fresh 1 teaspoon sea salt, preferably gray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ch baking soda or sugar, if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ento_San_Marzano_peeled-Tomatoes_TO-89008" descr=""/>
          <p:cNvPicPr/>
          <p:nvPr/>
        </p:nvPicPr>
        <p:blipFill>
          <a:blip r:embed="rId1"/>
          <a:stretch/>
        </p:blipFill>
        <p:spPr>
          <a:xfrm>
            <a:off x="4789440" y="1981080"/>
            <a:ext cx="352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the olive oil in a large pot over moderate h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parsley, basil and garlic and cook briefly to release their frag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tomatoes, basil and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e the tomatoes with an immersion blender or mas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mer briskly until reduced to a sauce like consistenc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opy%20(2)%20of%20Italy_color" descr=""/>
          <p:cNvPicPr/>
          <p:nvPr/>
        </p:nvPicPr>
        <p:blipFill>
          <a:blip r:embed="rId1"/>
          <a:stretch/>
        </p:blipFill>
        <p:spPr>
          <a:xfrm>
            <a:off x="685800" y="2101680"/>
            <a:ext cx="380988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ong do I simmer the sau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ing will depend on the ripeness and meatiness of your tomatoes and the size of your pot. If the sauce thickens too much before the flavors have developed, add a little water and continue cook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simmer 2 hours or 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auce" descr=""/>
          <p:cNvPicPr/>
          <p:nvPr/>
        </p:nvPicPr>
        <p:blipFill>
          <a:blip r:embed="rId1"/>
          <a:stretch/>
        </p:blipFill>
        <p:spPr>
          <a:xfrm>
            <a:off x="4648320" y="2766960"/>
            <a:ext cx="3809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mmmmm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te and adjust the seasoning. If the sauce needs a touch of sweetness, add the sugar and cook for 5 more minu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il 1 pound of pasta 8-9 minutes. Ladle it with the s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kle with a bit of  chopped basil and ser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251px-Eating-Spaghetti-1-28-10--5" descr=""/>
          <p:cNvPicPr/>
          <p:nvPr/>
        </p:nvPicPr>
        <p:blipFill>
          <a:blip r:embed="rId1"/>
          <a:stretch/>
        </p:blipFill>
        <p:spPr>
          <a:xfrm>
            <a:off x="5180040" y="1981080"/>
            <a:ext cx="2746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TESTING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r proctor will be Ms. Koivisto in Room 10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ore sample test questions, vis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cde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.ca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gov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ta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tg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9"/>
              </a:rPr>
              <a:t>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0"/>
              </a:rPr>
              <a:t>sr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1"/>
              </a:rPr>
              <a:t>/css05rtq.as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py%20of%20good-student-2a-751595" descr=""/>
          <p:cNvPicPr/>
          <p:nvPr/>
        </p:nvPicPr>
        <p:blipFill>
          <a:blip r:embed="rId12"/>
          <a:stretch/>
        </p:blipFill>
        <p:spPr>
          <a:xfrm>
            <a:off x="5265720" y="1981080"/>
            <a:ext cx="257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3:15:49Z</dcterms:created>
  <dc:creator>ladychamperz</dc:creator>
  <dc:description/>
  <dc:language>en-US</dc:language>
  <cp:lastModifiedBy>ladychamperz</cp:lastModifiedBy>
  <dcterms:modified xsi:type="dcterms:W3CDTF">2011-04-22T14:23:36Z</dcterms:modified>
  <cp:revision>4</cp:revision>
  <dc:subject/>
  <dc:title>How to make Napolitano Spaghetti Sauce</dc:title>
</cp:coreProperties>
</file>